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6644-E75C-4584-8429-DE0BBAFE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B23C-6140-481B-9FCC-79443C18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025D-6A29-4421-A897-285159A0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A818-FC6B-452B-B75D-B24F16AD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3599-F402-4573-B358-008CADFE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00DB-13A8-4C0D-B4FC-6D624713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3FF8-46A1-403B-9BDC-FB535112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7D02-28F0-43F3-9A05-501BF613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7E64-466F-4221-86F2-B324BC03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9681-4200-47E7-8F97-2CBF5F9B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6E83-1B8C-4D93-A59E-58B9C8A5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B173-B5DB-4546-AE7B-D967604A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DDA6-E940-4B06-A94F-CC2F014D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8B21-0B6B-4BB9-AA48-F4EC6B74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536C-D7A5-4792-8177-770BA641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67E6-CA86-4BB5-BDE4-9D4ED1B4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59B9-A10F-4FB6-B132-55119683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199947-72B8-4E10-94B5-AB2DEDE0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40347-C8AB-45FD-8829-4D6BA58E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C0F7A5-6518-4CCD-AF3B-536E3BB0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FA081-3ED4-4BD2-81A5-17F6C673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21FE68-B263-4F4A-B061-A8EB3018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4571-D243-4301-B777-43054BD4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910AD-4E04-45E6-942F-4D78DB7E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F8BA6-53E6-4F11-AAEB-401A30FB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166B5-504A-48ED-BDA7-262B104A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2C151-0D6F-43B8-9AF1-66219A42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68189-000E-4CFF-B433-4A1042EE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CA5100-5711-4EF2-9D2D-EF510E14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E35E35-010B-458B-8B8D-0ECEBF81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E5625A-ADA1-423B-9C8B-BFAB2F0D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F0772D-5D9C-40EB-9417-7FE200E2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F739F3-AA03-4D9E-BCE2-72AEDD4B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1EB-3EAE-4804-B7D4-EA62ACE2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37F536-1996-4502-9F3A-86D9CFB7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0EFD76-AB88-43AE-85FA-05D385C4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E6856A-088F-4D50-88CC-37B6AAAF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C6695C-397A-4A40-B39E-E88309F9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1D3B8A-BF69-4EE8-9F7D-53BE6291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AC0622-CA22-4B78-AC2E-1AE90B92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1BE997-46CD-40BB-B816-0115A671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CBD4FF-B1D6-4217-B891-E88BCD0D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63398C-8C1A-437E-BB13-5B333C0D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FDF7F2-2F3E-43C8-BE95-28F6DB3A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2655-4A85-4473-8528-052C6103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3DDC8E-88B3-4647-91A6-56CD9D25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C039EB-630B-4C2F-B53F-A91E69AF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4529D8-3072-467D-8F6F-0FF39EB8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035E4B-7669-4A26-9811-F57CF3DD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AFF87A-CBCB-4575-A80B-00725A6A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2069F8-8D06-4F79-BEC5-395011E4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8E43AB-2F57-423C-A822-9958A4D2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7B6F17-FC53-4BB5-9069-B23695AD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5E8641-440F-4274-86A6-AA8A9E9F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7EF4CB-0C29-467E-8FE5-FB14DEA9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1EC-435D-4D13-8CF7-7E4D519A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8F342E-B125-45E3-82D4-DC5CC524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7F245-1158-4543-A3F3-2F22C956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32AB4-77ED-4040-993A-3CCFBA28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4E351-87A4-409D-B9AC-F2D66BB1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E5660-00A2-4EFC-9B4A-7C8F39A7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32289-E44B-4D0B-9CE1-1BE86ADF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16134-1834-4122-B5E0-64A9AA8F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5B5CB-023C-4F80-B391-A28E81F6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736E7-7103-4EFA-B3C1-BCE1E8C8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C186C-3C79-4BED-B2EA-D5ECEF09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EEB8-C78E-42D8-AD48-AB4F3076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DBF1D-A04A-4F75-A04B-5A37B212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6BEAC-2C4C-4394-AB49-981B3052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E2F32-9500-4255-8B6E-54468026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0B6213-D5FB-4702-AB46-7ECDAA46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7BDF1B-EA41-4D67-ACB9-E70523FF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AC19F3-6117-4626-BD31-7EF44DEA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E03645-CDA7-4E58-BA74-F47E1078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36CC89-05BC-425E-BB42-E92A17DC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8E70AE-0E66-419B-8376-592C9DF8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D3CACE-28CF-4B01-A347-1DB640AE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A426-303C-43A5-AEB8-216AAE6C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652373-5DA3-498E-833B-C3947DF3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38FF7B-F63F-49B9-ACE8-89081EEE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71C1CC-4802-45AE-967D-042528BB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CC97CF-B6B8-4302-A359-AB09005F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1CFA44-C72B-4D12-B550-C58C9852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46941-A7B8-4BBD-84A5-36B56627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FDD9B-15BA-4133-82E9-2AAABB9D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CFEA8-3992-4B84-963E-3D11AAEF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CF765-A7B4-42C4-91F4-44C3A7A5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BCFF1-6941-4A85-A59F-FB006256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0EA-ED91-4990-9930-B16674B7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112D1-3B99-4D98-9742-5DAC755C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AF2F8-5244-4218-8B3E-5B8E58B8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BAFA8-79A3-4CF4-922B-0D4A9463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CFD1F-30A6-45CE-9D01-08B28E72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B7F37-7584-4CA3-B7AF-BEB80E2E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DDD73-27C0-4169-AA76-0A7A475C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FA6CC-E6D3-4F39-8602-9DFAAE71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BB33-300F-43B9-BE5F-4F8479272FB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6AAB-9E5B-4F16-8B64-DC38F7DB35C0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0B23-E673-4C81-80F9-F22D92D86A6A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58F4-22B1-47E1-91F9-52568A54F5A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7D99-3795-4C6B-A099-BAE015D882B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7522-2D60-4A09-B825-B7F748748CED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E133-4AF7-477D-96A8-6CC2B75B18D7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7B46-488F-45E1-8185-F67AB5AE72B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JOSEPH GOEBBEL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Johne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2971800" y="228600"/>
            <a:ext cx="3429000" cy="4782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fer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ww.spartacus.schollnet.co.uk/goebbels.ht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ww.britannica.co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ww.pbs.org/wgbh/amex/holocaust/peopleevents/pandeamex98.htm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ww.jewishvirtuallibrary.org/jsource/holocaust/goebbels.htm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ww.holocaustresearchproject.org/holoprelude/goebbels.htm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arly Lif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orn in Rheydt, Germany on October 29, 1897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s short stature and crippled foot would torment him throughout his lif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s father was a subordin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ffice work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5257800" y="2809800"/>
            <a:ext cx="3095640" cy="4048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ducation and Early Care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360" y="1600200"/>
            <a:ext cx="5102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s disfigured foot prevented him from joining the German army in WWI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ceived a doctorate from Heidelberg University in 1922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e then attempted to pursue a career in literatur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rote novels, plays, and poems, but had difficulty finding publishers who would accept his work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5962680" y="1600200"/>
            <a:ext cx="3181320" cy="441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ise to Pow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ailing as a writer and afraid of being considered a bourgeois intellectual, Goebbels joined the Nazi party in 1924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e immediately utilized his intellectual powers to create propaganda and control enemy publication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though he was not entirely liked by other party leaders, but his friendship with Hitler provided opportunities for advancement and he became the party’s chief propagandist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Master Propagandis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the Nazis’ Minister of Propaganda, Goebbels was responsible for managing projects to produce pro-Nazi films, radio programs, books, and advertisemen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e was also the editor of a number of Nazi newspaper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2952720" cy="4114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ristallnach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oebbels was responsible for ordering the Kristallnacht massacre on November 9, 1938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1752480" y="2637000"/>
            <a:ext cx="4953240" cy="4221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eginning of the En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360" y="1600200"/>
            <a:ext cx="3730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oebbels was the first to acknowledge the inevitable defeat of Germany after the fall of Stalingrad in 1943.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ever, despite this failure, German morale persisted with cleverly reassuring propaganda from Goebbel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3809880" cy="4965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End of the Third Rei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360" y="1600200"/>
            <a:ext cx="4568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Russian troops approached Berlin, Goebbels retreated into Hitler’s subterranean bunk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en Hitler committed suicide on April 30, Goebbels became the ruler of German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ever, this would not las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3108240" cy="447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eat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360" y="1600200"/>
            <a:ext cx="4568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next day, Goebbels, his wife, and their six children committed suicide.  Their bodies were burned outside the Führerbunker and discovered by Soviet troops several days afterwar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2666880" cy="422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7:10:13Z</dcterms:created>
  <dc:creator> </dc:creator>
  <dc:description/>
  <dc:language>en-US</dc:language>
  <cp:lastModifiedBy> </cp:lastModifiedBy>
  <dcterms:modified xsi:type="dcterms:W3CDTF">2009-11-25T17:10:41Z</dcterms:modified>
  <cp:revision>17</cp:revision>
  <dc:subject/>
  <dc:title>Joseph goebbels</dc:title>
</cp:coreProperties>
</file>